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7175-D270-4C11-AF36-BC70833FB1C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r task is to look at our school, our classes and decide where we can support our students in moving up the rubr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n look at  our kids and see how we can support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2F03-8CD2-4A9E-82E7-BF5FEDEAFF8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can look at what a 1 or a 2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can look at the examples that ACRARA g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then can look at what our students are doing and think about what support they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AD9B-B778-41A4-A281-63565A4F624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Calibri"/>
              </a:rPr>
              <a:t>The rubric shows what is expected next and gives examples that students could read to get an idea of what writing in paragraphs looks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E4FA-1EF6-4B8D-846A-E665A4C7450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gives us the details of student results by crit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can look at students in a school in a class or even by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9692-EB51-4401-9565-852BBABF17E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is the example given by Phillip Holmes Smith and it is based on the narrative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t is not different to what you can get from the reports this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or those of you that are buying ‘Sreams’ it is done for 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05A4-90AF-44AC-9ABC-A004C5AA063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Year 7 NAPLAN Persuasive Writing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writing was assessed in 8 areas. I have created a table to show you what the students (as an average) actually achieved and what they need to learn n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document could be used to forward plan writing strategies and learning intentions for term one next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upport taken directly from the marking gu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uld use the information from sources like Northern Territory writing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wiki has lots of information about persuasive wr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4C30-5180-434E-B5E4-B9371FBE9DA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have this material arou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n’t let’s just leave i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B7CB-968A-4FFE-A0FB-1644E69A46B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often talk about what we have to do to improve the kids but what do we do to get our teachers to look at thei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school owns thi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om prep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re will be things we can all do as a school to build strength in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30CE-07CF-4777-BC38-7123F96373E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etwork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762F-EE9B-427E-B607-3467652EFF8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tem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can see cohort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 use classes within schoo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ooking for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4952-ABD5-4C1B-94E5-993E8400A76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9CB6-67D3-4859-A316-9FF3A7C153A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Question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cohort School Answer is A – 25% had it correct c/f 59% of the state getting it corr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ee the spread of answers across the state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75% of cohort had the same incorrect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uld lead to believe that misconception – not taught / not understood by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B811-1CF7-4CE1-B0A0-1A1221218BA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2453-92A5-4FC3-87E7-FB74AF790D4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en you look at student results  - the raw score you can get a vels level although as with any conversion it only gives a feeling and not completely accu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2347-92BC-4100-A966-121A692CFA6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BBCC-DEB1-4BBC-B1A1-EEF8C4A3B2D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 the materials that have been presented by Phillip Holmes Smith as a tool to navigate the process of looking at the data provided in Napl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to get into reports and then how to use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ome schools are buying s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8FD4-AD97-488D-BB11-24347586C47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ing writing as a focus today because topic is supporting wri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E038-674A-4545-808A-45893E5C148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range is the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d is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973A-CF71-44E2-8FEA-84ED5CF3008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t is 70 pages long and hopefully everyone brought the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an use it online or on the computer but each school should have at least one hard copy of the doc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8EFC-9339-4E13-AB23-C75C43090F7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very genre or text type has a defined criteria for ma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arrative did and here is the one for Persua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expect that students will be expected to write in the persuasive genre for at least 5 years to allow for the picture to be formed of student grow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deas are linked to the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aracters and settings instead of persuasive devi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t would be still good to use the narrative rubric for working with narratives (Don’t throw the baby out with the bathwater!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33D1-DDF9-4161-81D2-F4891F15007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55E-08C3-4930-9554-C63CD4FE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D03-9149-4C50-9BF8-51110C71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2DA-8433-4F67-9C46-4C1AC9E8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5B2-4103-4A7F-8309-835F9F1E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0C7-63B8-4E33-A4DD-0BAA9F1F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156-C4A8-41FD-B6BA-190B4504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671-AA15-4ABE-A1F3-E850998D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340-4BD7-4A48-AA3E-E271C329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681-75BF-4F84-98C4-40DAD656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16B-78F3-4098-9BE7-3C2E407F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B71-E367-41DD-BE11-A4C63D97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5BF-92B7-43B8-AECE-F8215ABD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7909-9A6C-4911-9C01-97AA55323C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reams.com.a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o Blame Analysis of Na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02040" y="835200"/>
            <a:ext cx="3595680" cy="5941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6445080" y="2112840"/>
            <a:ext cx="227988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ext structure (0 –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his school about 38% received a score of 1 but the majority 59%received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o improve the teachers need to move the 1s to 2 and the 2s to 3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4"/>
          <p:cNvCxnSpPr/>
          <p:nvPr/>
        </p:nvCxnSpPr>
        <p:spPr>
          <a:xfrm flipH="1" flipV="1">
            <a:off x="4115880" y="2618640"/>
            <a:ext cx="2431440" cy="5148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5" name="Straight Arrow Connector 6"/>
          <p:cNvCxnSpPr>
            <a:stCxn id="83" idx="1"/>
          </p:cNvCxnSpPr>
          <p:nvPr/>
        </p:nvCxnSpPr>
        <p:spPr>
          <a:xfrm flipH="1" flipV="1">
            <a:off x="4622400" y="2567880"/>
            <a:ext cx="1823040" cy="4388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5"/>
          <p:cNvSpPr/>
          <p:nvPr/>
        </p:nvSpPr>
        <p:spPr>
          <a:xfrm>
            <a:off x="1332000" y="189000"/>
            <a:ext cx="67849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7030a0"/>
                </a:solidFill>
                <a:latin typeface="Arial"/>
              </a:rPr>
              <a:t>Our schools – a closer loo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69720" y="1050840"/>
            <a:ext cx="8483760" cy="546588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469800" y="290520"/>
            <a:ext cx="8051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kill focus: The organisation of the structural components of a persuasive text (introduction, body and conclusion) into an appropriate and effective text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 we suggest that this teacher or teachers  do to support these stud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31720" y="1527120"/>
            <a:ext cx="6362640" cy="5021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030a0"/>
                </a:solidFill>
                <a:latin typeface="Calibri"/>
              </a:rPr>
              <a:t>The Student Response Report</a:t>
            </a:r>
            <a:br>
              <a:rPr sz="4000"/>
            </a:br>
            <a:r>
              <a:rPr b="0" lang="en-AU" sz="2800" spc="-1" strike="noStrike">
                <a:solidFill>
                  <a:srgbClr val="7030a0"/>
                </a:solidFill>
                <a:latin typeface="Calibri"/>
              </a:rPr>
              <a:t>(Writing Test – by criter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10"/>
          <p:cNvCxnSpPr/>
          <p:nvPr/>
        </p:nvCxnSpPr>
        <p:spPr>
          <a:xfrm flipH="1" flipV="1">
            <a:off x="3336120" y="3318840"/>
            <a:ext cx="3722040" cy="11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1"/>
          <p:cNvSpPr/>
          <p:nvPr/>
        </p:nvSpPr>
        <p:spPr>
          <a:xfrm>
            <a:off x="6991200" y="3003480"/>
            <a:ext cx="2152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Calibri"/>
              </a:rPr>
              <a:t>Choose “Student Response Repo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14"/>
          <p:cNvCxnSpPr/>
          <p:nvPr/>
        </p:nvCxnSpPr>
        <p:spPr>
          <a:xfrm flipH="1" flipV="1">
            <a:off x="3501720" y="5628960"/>
            <a:ext cx="3512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6991200" y="5265720"/>
            <a:ext cx="2152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Calibri"/>
              </a:rPr>
              <a:t>Choose “Writing Test – by criteri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le 1"/>
          <p:cNvSpPr/>
          <p:nvPr/>
        </p:nvSpPr>
        <p:spPr>
          <a:xfrm>
            <a:off x="0" y="29376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500" spc="-1" strike="noStrike">
                <a:solidFill>
                  <a:srgbClr val="7030a0"/>
                </a:solidFill>
                <a:latin typeface="Calibri"/>
              </a:rPr>
              <a:t>The Student Response Report (Writing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87520" y="846000"/>
            <a:ext cx="792468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900000" y="0"/>
            <a:ext cx="804708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can we assist teachers to think about using data like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houlder to shoulder 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ran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Primary to Second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o owns the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9 months of the 24 month cycle is with previous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ooking for common misconceptions so that we can support students in achieving the best that they 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approach to sustaining student outcomes in the long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upportive and collegiate discussions between secondary schools and feeder primar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ata has to be generated by Secondary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reaking year 7 data into primary school cohorts can show the strengths and areas to work on at the primary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ur Data Table Sh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have you done with your Naplan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have you learnt from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ime to sh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w Gisborne, Gisborne, Romsey, Mt Mace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em Analysis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769080" cy="4978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7236000" y="314172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hoose item Analysi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875640" y="450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hoose clas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10" idx="1"/>
          </p:cNvCxnSpPr>
          <p:nvPr/>
        </p:nvCxnSpPr>
        <p:spPr>
          <a:xfrm flipH="1" flipV="1">
            <a:off x="4426920" y="3212280"/>
            <a:ext cx="2809080" cy="389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3" name="Straight Arrow Connector 9"/>
          <p:cNvCxnSpPr/>
          <p:nvPr/>
        </p:nvCxnSpPr>
        <p:spPr>
          <a:xfrm flipH="1">
            <a:off x="4211280" y="4868640"/>
            <a:ext cx="259272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ding using item analys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971640" y="1600200"/>
            <a:ext cx="720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we are looking 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539640" y="1557360"/>
            <a:ext cx="8145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7"/>
          <p:cNvSpPr/>
          <p:nvPr/>
        </p:nvSpPr>
        <p:spPr>
          <a:xfrm>
            <a:off x="7020000" y="2060640"/>
            <a:ext cx="720720" cy="50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7020000" y="2060640"/>
            <a:ext cx="720720" cy="50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ding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7093080" y="2205000"/>
            <a:ext cx="64764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539640" y="1328760"/>
            <a:ext cx="8280360" cy="5205240"/>
          </a:xfrm>
          <a:prstGeom prst="rect">
            <a:avLst/>
          </a:prstGeom>
          <a:ln w="0">
            <a:noFill/>
          </a:ln>
        </p:spPr>
      </p:pic>
      <p:sp>
        <p:nvSpPr>
          <p:cNvPr id="124" name="Oval 8"/>
          <p:cNvSpPr/>
          <p:nvPr/>
        </p:nvSpPr>
        <p:spPr>
          <a:xfrm>
            <a:off x="7093080" y="2205000"/>
            <a:ext cx="792000" cy="360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6084720" y="2205000"/>
            <a:ext cx="5749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7093080" y="2708280"/>
            <a:ext cx="5032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11"/>
          <p:cNvSpPr/>
          <p:nvPr/>
        </p:nvSpPr>
        <p:spPr>
          <a:xfrm>
            <a:off x="6156360" y="2060640"/>
            <a:ext cx="431640" cy="1368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368360"/>
              <a:gd name="textAreaBottom" fmla="*/ 1347480 h 1368360"/>
            </a:gdLst>
            <a:ahLst/>
            <a:rect l="textAreaLeft" t="textAreaTop" r="textAreaRight" b="textAreaBottom"/>
            <a:pathLst>
              <a:path w="21600" h="68436">
                <a:moveTo>
                  <a:pt x="3600" y="0"/>
                </a:moveTo>
                <a:arcTo wR="3600" hR="3600" stAng="16200000" swAng="-5400000"/>
                <a:lnTo>
                  <a:pt x="0" y="64836"/>
                </a:lnTo>
                <a:arcTo wR="3600" hR="3600" stAng="10800000" swAng="-5400000"/>
                <a:lnTo>
                  <a:pt x="18000" y="68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826920" y="1349280"/>
            <a:ext cx="7921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rammar and Punc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250920" y="1517760"/>
            <a:ext cx="889308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1403280" y="1355760"/>
            <a:ext cx="68407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Where to from her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erm 4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Guided Reading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– workshop  modelling and inclass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Literacy block Grade 1/2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- planning modelling inclass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Daily 5 and Cafe Menu Prep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- planning and inclass 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pelling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– revisit after whole school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erm 4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upporting Writers Workshop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th Literacy Coordin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Follow up afterschool workshops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To be decide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Reading workshop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– Grade 5/6 planning and inclass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Friends and Books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– follow up with schools/ Ultr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Naplan analysis and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port 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s a group thing that we could take back to our schools to 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commendation for others to 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Practic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aplan Conversion to V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00888204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673200" y="1403280"/>
            <a:ext cx="744372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Phillip Holmes Smith 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Expected Growth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77840" y="1455840"/>
          <a:ext cx="7748640" cy="4655880"/>
        </p:xfrm>
        <a:graphic>
          <a:graphicData uri="http://schemas.openxmlformats.org/drawingml/2006/table">
            <a:tbl>
              <a:tblPr/>
              <a:tblGrid>
                <a:gridCol w="2271960"/>
                <a:gridCol w="2273040"/>
                <a:gridCol w="1019160"/>
                <a:gridCol w="1019160"/>
                <a:gridCol w="73080"/>
                <a:gridCol w="1092240"/>
              </a:tblGrid>
              <a:tr h="563400"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ac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3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 3 -Yr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ow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-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-9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-115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eded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9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1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gridSpan="6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rowSpan="3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 5 - Yr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ow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4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4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.6-5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.1-5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.2-6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eded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5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5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6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gridSpan="6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rowSpan="3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 7 - Yr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ow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3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3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in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7-3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-4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.2-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eded Expected Grow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4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ays to Use Data  to Inform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hillip Holmes Smith – </a:t>
            </a: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Coordin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ish Hyland </a:t>
            </a: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where to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n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imary to second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hillip Holmes Smi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reams.com.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ing Naplan data as an example of to use data to inform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.Writing criteria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 Marking Rub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3. Response Repo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94" t="11662" r="48992" b="35258"/>
          <a:stretch/>
        </p:blipFill>
        <p:spPr>
          <a:xfrm>
            <a:off x="127080" y="1403280"/>
            <a:ext cx="6710400" cy="4551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39400"/>
            <a:ext cx="91440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030a0"/>
                </a:solidFill>
                <a:latin typeface="Calibri"/>
              </a:rPr>
              <a:t>The Writing Criteria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Straight Arrow Connector 10"/>
          <p:cNvCxnSpPr/>
          <p:nvPr/>
        </p:nvCxnSpPr>
        <p:spPr>
          <a:xfrm flipH="1" flipV="1">
            <a:off x="3336120" y="3188520"/>
            <a:ext cx="3722040" cy="11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" name="TextBox 11"/>
          <p:cNvSpPr/>
          <p:nvPr/>
        </p:nvSpPr>
        <p:spPr>
          <a:xfrm>
            <a:off x="6991200" y="2873520"/>
            <a:ext cx="2152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Calibri"/>
              </a:rPr>
              <a:t>Choose “Writing Criteria Repo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14"/>
          <p:cNvCxnSpPr/>
          <p:nvPr/>
        </p:nvCxnSpPr>
        <p:spPr>
          <a:xfrm flipH="1">
            <a:off x="2082600" y="5653440"/>
            <a:ext cx="4931280" cy="11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TextBox 15"/>
          <p:cNvSpPr/>
          <p:nvPr/>
        </p:nvSpPr>
        <p:spPr>
          <a:xfrm>
            <a:off x="6991200" y="5257800"/>
            <a:ext cx="2152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Calibri"/>
              </a:rPr>
              <a:t>Click on “Preview Report” to view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403280" y="1133640"/>
            <a:ext cx="6226200" cy="4198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030a0"/>
                </a:solidFill>
                <a:latin typeface="Calibri"/>
              </a:rPr>
              <a:t>The Writing Criteria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441440" y="1138320"/>
            <a:ext cx="701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1306440" y="5867280"/>
            <a:ext cx="6411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Arial"/>
              </a:rPr>
              <a:t>The report makes little sense without understanding how the writing task is marked against the “Writing Marking Gui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6"/>
          <p:cNvCxnSpPr/>
          <p:nvPr/>
        </p:nvCxnSpPr>
        <p:spPr>
          <a:xfrm flipH="1" flipV="1">
            <a:off x="4562280" y="5182920"/>
            <a:ext cx="20880" cy="815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6"/>
          <p:cNvSpPr/>
          <p:nvPr/>
        </p:nvSpPr>
        <p:spPr>
          <a:xfrm>
            <a:off x="166680" y="3732120"/>
            <a:ext cx="16207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7305840" y="2973240"/>
            <a:ext cx="1266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1"/>
          <p:cNvCxnSpPr/>
          <p:nvPr/>
        </p:nvCxnSpPr>
        <p:spPr>
          <a:xfrm flipV="1">
            <a:off x="825120" y="3276000"/>
            <a:ext cx="2632320" cy="60876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2" name="Straight Arrow Connector 15"/>
          <p:cNvCxnSpPr/>
          <p:nvPr/>
        </p:nvCxnSpPr>
        <p:spPr>
          <a:xfrm flipH="1">
            <a:off x="4571280" y="3124800"/>
            <a:ext cx="2685240" cy="2530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58840" y="1114560"/>
            <a:ext cx="6226200" cy="5578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030a0"/>
                </a:solidFill>
                <a:latin typeface="Calibri"/>
              </a:rPr>
              <a:t>The Writing Marking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09600" y="1138320"/>
            <a:ext cx="701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2975040" y="1955880"/>
            <a:ext cx="166212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9"/>
          <p:cNvCxnSpPr/>
          <p:nvPr/>
        </p:nvCxnSpPr>
        <p:spPr>
          <a:xfrm flipH="1" flipV="1">
            <a:off x="4734720" y="2166120"/>
            <a:ext cx="18565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8" name="TextBox 10"/>
          <p:cNvSpPr/>
          <p:nvPr/>
        </p:nvSpPr>
        <p:spPr>
          <a:xfrm>
            <a:off x="6629400" y="1969920"/>
            <a:ext cx="2286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Calibri"/>
              </a:rPr>
              <a:t>Click here to download the Writing Marking Ru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Writing Marking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27080" y="1100160"/>
            <a:ext cx="7039080" cy="404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976320" y="5099040"/>
            <a:ext cx="7039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2:25:40Z</dcterms:created>
  <dc:creator>00888204</dc:creator>
  <dc:description/>
  <dc:language>en-US</dc:language>
  <cp:lastModifiedBy>00888204</cp:lastModifiedBy>
  <dcterms:modified xsi:type="dcterms:W3CDTF">2011-10-26T10:41:46Z</dcterms:modified>
  <cp:revision>5</cp:revision>
  <dc:subject/>
  <dc:title>Analysing Naplan</dc:title>
</cp:coreProperties>
</file>